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55D-0C2C-4620-909A-6D9A1224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9AAB-CBD2-43C9-ACF2-1E9106AC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C55-A332-4D09-9C01-AE478054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D5A5-9EFA-4AFA-BE5E-2593593F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B566-37F2-451C-9990-5D860C36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9C4-587E-4744-A6F5-5559E62B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7B0-7230-4812-89B3-A295C2F7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9F6-B9BB-41C5-B6BA-6C1F8E78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BD9-73A7-4C06-9F44-0EA15772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F14-957B-4A10-A208-B3F0E311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25D-3597-45FF-B57A-5D2B99BE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1E59-EFE9-4713-8A67-DA1DA7CA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2BCC-5814-41AD-89D9-26934B622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836640"/>
            <a:ext cx="8713800" cy="4032360"/>
          </a:xfrm>
          <a:prstGeom prst="rect">
            <a:avLst/>
          </a:prstGeom>
          <a:solidFill>
            <a:srgbClr val="0000cc"/>
          </a:solidFill>
          <a:ln w="57240">
            <a:solidFill>
              <a:srgbClr val="fe2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Některé poznatk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z </a:t>
            </a:r>
            <a:br>
              <a:rPr sz="54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komerčního)</a:t>
            </a:r>
            <a:br>
              <a:rPr sz="28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ěření ITN</a:t>
            </a:r>
            <a:br>
              <a:rPr sz="8000"/>
            </a:br>
            <a:br>
              <a:rPr sz="9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7040" y="5445000"/>
            <a:ext cx="306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Luděk Mare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SI a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ludek.mares@fs.cvu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549360"/>
            <a:ext cx="7848360" cy="56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977080" cy="3754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080" y="0"/>
            <a:ext cx="69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ÉMA MĚŘENÍ INDIKÁTORU V KALORIMETRICKÉ KOMO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71280" y="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ÁZNAM TEPLOT BĚHEM MĚŘENÍ - KVALITNÍ INDIKÁ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18160" y="0"/>
            <a:ext cx="63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KVALITNÍ INDIKÁTOR – NESPLŇUJE PŘEDEPSANÉ „c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0"/>
            <a:ext cx="79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KÁTOR UMÍSTĚNÝ V OBLASTI VYSOKÉ POVRCHOVÉ TEPLOT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9400" y="0"/>
            <a:ext cx="78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 ČSN EN 83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ísto instalace musí být tam, kde teplonosná látka prošla od 20 % do 34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celkové aktivní otopné plochy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7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649920" y="3213000"/>
            <a:ext cx="2494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067280" y="1844640"/>
            <a:ext cx="1225440" cy="792360"/>
          </a:xfrm>
          <a:prstGeom prst="ellipse">
            <a:avLst/>
          </a:prstGeom>
          <a:noFill/>
          <a:ln w="38160">
            <a:solidFill>
              <a:srgbClr val="fe2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43160" y="907920"/>
            <a:ext cx="4921200" cy="5210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24720" y="0"/>
            <a:ext cx="50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OROVÁNÍ“ OBJEDNATELE S UMÍSTĚ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EVYCHÁZEL SOUČINITEL „c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560" y="0"/>
            <a:ext cx="37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T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 EXTERNÍM SEZ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KÁTOR JE OVLIVNĚ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ÁLÁNÍM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STĚN MÍS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2000" cy="5197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580000" y="0"/>
            <a:ext cx="35640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25040" y="6516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ÍSTĚNÍ INDIKÁTORU A STŘEDNÍ TEPLOTY NA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98040" y="333360"/>
            <a:ext cx="53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Vavřička, R.: Povrchová teplota deskových OT, in: Topin 2/20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976320"/>
            <a:ext cx="9144000" cy="5881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25040" y="6516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ÍSTĚNÍ INDIKÁTORU A STŘEDNÍ TEPLOTY NA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25040" y="6516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ÍSTĚNÍ INDIKÁTORU A STŘEDNÍ TEPLOTY NA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58920" y="576360"/>
            <a:ext cx="669780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240" y="1700280"/>
            <a:ext cx="862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VODY PRO STANOVOVÁNÍ SPOTŘEBOVANÉHO TEP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DNOTLIVÝMI BYTY V BYTOVÝCH DOME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SPRAVEDLIVÉ ROZÚČTOVÁNÍ NÁKLADŮ NA VYTÁP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ÚSPORY TEPLA („když platím podle toho co spotřebuji, tak šetřím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16000" y="602136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ěkuji za pozor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9440" y="8352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ÁVĚ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280" y="1844640"/>
            <a:ext cx="71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OVENÍ SPOTŘEBY TEPLA POUŽITÍM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OVLIVNĚNO MNOHA OBTÍŽNĚ PODCHYTITELNÝMI FAK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ZATÍŽENO ŘADOU NEZANEDBATELNÝCH CHY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268360" y="2997360"/>
                <a:ext cx="4032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396360" y="0"/>
            <a:ext cx="73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TEPLONOSNOU LÁT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6360" y="5589720"/>
            <a:ext cx="55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 NELZE POUŽÍT U VERTIKÁLNÍ SOUSTAV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00000" y="1989000"/>
                <a:ext cx="4464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685080" y="1628640"/>
            <a:ext cx="52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RŮST SPOTŘEBNÍ HODNOTY INDIKÁT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69228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EDANÉ TE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79280" y="981000"/>
                <a:ext cx="4464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79280" y="1125360"/>
            <a:ext cx="792360" cy="432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00000" y="1974960"/>
                <a:ext cx="4464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869440" y="1341360"/>
            <a:ext cx="25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YCHLOST ZÁZN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KÁT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900000" y="1974960"/>
                <a:ext cx="4464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4718160" y="3357720"/>
            <a:ext cx="36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HODNOCOVACÍ SOUČINI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ÁKLADŮ NA VYTÁPĚ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 TEPELNÝ STYK SNÍMAČ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900000" y="1974960"/>
                <a:ext cx="4464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396360" y="3141720"/>
            <a:ext cx="35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ČINITEL „c“ INDIKÁT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VYJADŘUJE JAK SE TEPL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ĚŘENÉ INDIKÁT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BLIŽUJÍ SKUTEČNÝ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56000" y="3213000"/>
                <a:ext cx="16556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63640" y="2222640"/>
            <a:ext cx="5688000" cy="2442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0" y="2781360"/>
            <a:ext cx="431640" cy="431640"/>
          </a:xfrm>
          <a:prstGeom prst="ellipse">
            <a:avLst/>
          </a:prstGeom>
          <a:noFill/>
          <a:ln w="28440">
            <a:solidFill>
              <a:srgbClr val="fe2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720" y="0"/>
            <a:ext cx="51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EDEPSANÉ UMÍSTĚNÍ INDIKÁTORU 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981000"/>
            <a:ext cx="3097080" cy="511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17440" y="1432080"/>
            <a:ext cx="2011680" cy="3560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26160" y="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ÉMA DVOUČIDLOVÉHO INDIKÁT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15560" y="1628640"/>
            <a:ext cx="542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ROKY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DOBRÝ DOTYK SENZORU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TEPLOTNÍ ODIZOLOVÁNÍ SENZORU VZDU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ČASOVOU STÁLOST SENZ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PŘESNOU ELEKTRO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TRVANLIVOST BAT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20:25:39Z</dcterms:created>
  <dc:creator>Luděk Mareš</dc:creator>
  <dc:description/>
  <dc:language>en-US</dc:language>
  <cp:lastModifiedBy>L</cp:lastModifiedBy>
  <dcterms:modified xsi:type="dcterms:W3CDTF">2016-10-13T19:26:37Z</dcterms:modified>
  <cp:revision>55</cp:revision>
  <dc:subject/>
  <dc:title>Snímek 1</dc:title>
</cp:coreProperties>
</file>