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F34-BD0E-4374-BF14-47C0A7D9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C37-F349-4C52-9888-A1E0B9E8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6B9-8FF2-4523-8845-92453248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EE5-E781-4705-A8E7-1028A495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C7F5-6A74-4630-97B1-617F7E4E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D7EA-02F8-41CF-AD50-483DDE91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146D-B026-46D0-A811-F21271BC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5A86-DA4D-4D89-BDFA-4CC4F5A4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A199-B762-4A4C-B75F-1DBE718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9482-42A6-418E-8879-CFD128C1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7316-2FD2-45C1-89A2-214CDDA7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8B0-8093-4A39-A463-ECE3E496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7ABB-E6B9-4EA7-9999-84572CF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2E4E-4F2A-4F26-B0DC-A20A25DD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53BF-ACAD-4945-B265-48F6DC28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1B1E-14AD-43DD-A15B-EB3489AB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8197-4663-4C00-8FF2-42DDAE06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4ED-469C-428F-925C-AE9698BF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F0E-EBAC-4382-9854-95F4CE89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5E4-8662-495C-B501-0CF0766C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F94-5DAA-43D1-99C2-C6B6E868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1EB-7E8F-4807-97E3-4149527B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9A9-B685-4AEA-8376-CBB62C66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F4D-A19E-413C-9EEE-731E0526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C118-2DA9-4065-8F43-9B465343EF4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7106-FFD8-4FA3-9D0F-6823347E996A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ng. Miroslav Kučera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akulta strojní ČVUT v Pra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stav techniky prostřed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mail: miroslav.kucera@fs.cvut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50920" y="2276640"/>
            <a:ext cx="8280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ovela § 77 zákona č. 258/2000 Sb., o ochraně veřejného zdrav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Neprovede-li stavebník dostatečná opatření k ochraně před hlukem, nemůže žádat, aby tato opatření provedl provozovatel, vlastník nebo správce zdroje hluku. To neplatí, dojde-li k prokazatelnému navýšení hluku ze zdroje hluku; co se považuje za prokazatelné navýšení hluku, stanoví prováděcí právní předpi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rovozovatele zdroje hluku pokud byl v území první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prokazatelném nárůstu hlučnosti zdroje, úpravy leží na provozovateli zdroj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vrh stavebníka na odloženou realizaci protihlukové ochrany chráněné stavby do doby realizace plánované výstavby např. pozemní komunikace, nelze akceptova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611280" y="112536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ochraně zdraví před nepříznivými účinky hluku a vibr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o novelizováno a je platné ve znění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bdélník 1"/>
          <p:cNvSpPr/>
          <p:nvPr/>
        </p:nvSpPr>
        <p:spPr>
          <a:xfrm>
            <a:off x="611280" y="17208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vby, objekty, provozovny, nepohybující se stroje a zařízení pevně fixované na své místo nebo ty, jejichž akční rádius je při pracovním nasazení omezen…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se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ne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droje související s činnostmi spojenými s běžným užíváním bytu, bytového domu, rodinného domu, stavby pro rodinnou rekreaci a pozemků k nim náležejících,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s výjimkou zařízení pro větrání a vytápě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, která jsou nedílnou součástí stavb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 kolaudována se stavbo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y pro chráněné prostory zůstávají    50/40  a 40/30 d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zení - klimatizace (chladí a netopí) - kolaudace – stac. zdro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nesena dodatečně – sousedský hlu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Obdélník 1"/>
          <p:cNvSpPr/>
          <p:nvPr/>
        </p:nvSpPr>
        <p:spPr>
          <a:xfrm>
            <a:off x="611280" y="1720800"/>
            <a:ext cx="79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em významným z hlediska pronikání hluku je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řed výplní otvoru obvodového pláště stavby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zajišťující přímé přirozené větr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a níž se nachází chráněný vnitřní prostor stavby,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ku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to chráněný prostor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přímo větrat jina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trání tlumenými štěrbinami na fasádě je povol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 nelze provětrávat přes sousední místno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na mohou být otevíratelná avšak při jejich uzavření musí být splněn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ický lim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Obdélník 1"/>
          <p:cNvSpPr/>
          <p:nvPr/>
        </p:nvSpPr>
        <p:spPr>
          <a:xfrm>
            <a:off x="539640" y="17208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prokazatelné navýšení  hluku zdroje se považuje  navýšení větší než 2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ze považovat za hodnotitelnou změnu rozdíl v intervalu 0,1 až 0,9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nění hygienického limit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258920" y="4581360"/>
            <a:ext cx="5184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7" name="Objekt 3"/>
          <p:cNvGraphicFramePr/>
          <p:nvPr/>
        </p:nvGraphicFramePr>
        <p:xfrm>
          <a:off x="1692360" y="4348080"/>
          <a:ext cx="520056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k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348080"/>
                    <a:ext cx="52005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539640" y="285264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je dotčeným správním úřadem při rozhodování ve věcech upravených zvláštními právními předpisy </a:t>
            </a:r>
            <a:r>
              <a:rPr b="0" i="1" lang="cs-CZ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2)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é se dotýkají zájmů chráněných orgánem ochrany veřejného zdraví podle tohoto zákona a zvláštních právních předpisů včetně hodnocení a řízení zdravotních rizik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vydává v těchto věcech stanovisko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uhlas může orgán ochrany veřejného zdraví vázat na splnění podmínek. Stanovisko není rozhodnutím vydaným ve správním říz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hledisek stavebního zákona jde zejména o problematiku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chrany před hlukem, vibracem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ionizujícím záření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 případě, že je v platné územně plánovací dokumentaci uveden záměr, u kterého lze důvodně předpokládat, že bude po uvedení do provozu zdrojem hluku nebo vibrac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ejména z provozu na pozemních komunikacích nebo železničních drahách,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ke stavbě, která by mohla být tímto hlukem či vibracemi dotčena, vydat kladné stanovisko orgánu ochrany veřejného zdraví, aniž by u ní byla přijata opatření k ochraně před hlukem nebo vibracemi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 zajistit „prioritu v území“ strategickým stavbám infrastruktury (pozemním komunikacím a drahám) již ve fázi zanesení budoucí trasy do územně plánovací dokument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 je umisťování „chráněných staveb “ i v lokalitách, v jejichž těsné blízkosti jsou navrženy trasy liniových staveb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datečná zátěž provozovatelů  protihlukovými opatřeními, která jsou mnohdy technicky nemožná nebo nedostatečn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 o stavby bytových domů, rodinných domů, stavby pro předškolní a školní výchovu a vzdělávání, stavby pro zdravotní a sociální účely, jakož i funkčně obdobné stavb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ěný vnitřní 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obytové místnosti ve stavbách zařízení pro výchovu a vzdělávání, pro zdravotní a sociální účely a ve funkčně obdobných stavbách a obytné místnosti ve všech stavbách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oj hluku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iště, pozemní komunikace, dráhy, stavby či jiná zařízení (s výjimkou venkovního prostoru) poskytnutá k pořádání veřejné produkce hudby, provozovny a další objekty, jejichž provozem vzniká hluk, ale i stroje a zařízení, které jsou zdrojem hluku nebo vibrac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 odst. 1 zákona č. 258/2000 Sb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nov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ž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 zdroje, pořadatel hudební akce, ale také majitel pozemku či objektu, na kterém je zdroj hluku umístěn aj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jsou povinny technickými, organizačními a dalšími opatřeními zajistit, aby hluk nepřekračoval hygienické lim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ou před hlukem se rozumí ochrana před „nadlimitním hlukem“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že je-li hluk podlimitní, není nutné přijímat žádná opatření k ochraně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se stavba umisťuje ke zdroji hluku do území, které není zasaženo nadlimitním hlukem, nejsou pro stavebníka žádná omezení, resp. není povinnost realizovat protihluková opatř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e, že vypočtená hodnota je o více než 3,0 dB nižší, než hodnota relevantního hygienického limit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leží výpočtový bod v „podlimitním“ území, neposuzuje se v daném místě zvýšení hluku o 2,0 dB a více. Jakmile by se v budoucnosti měřením prokázalo, že hluk je nadlimitní, znamená to, že povinnou osobou je provozovatel zdroje hluk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umisťování stavby do území není přípustné překročení hygienických limitů ani o 0,1 dB.  (logaritmický součet 40 +25 =40,1dB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vební úřad vždy zajistí, aby záměr žadatele ke stavbě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tového domu, rodinného domu, stavbě pro předškolní nebo školní vzdělávání, stavbě pro zdravotní nebo sociální účely anebo k funkčně obdobné stavbě a ke stavbě zdroje hluku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yl z hlediska ochrany před hlukem posouzen příslušným orgánem ochrany veřejného zdraví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, aby vstupuje-li chráněná stavba do území jako druhá, byl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vinn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hlukových opatření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 straně stavební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ráněné stavby,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ikoli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i zdroj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uku, který byl v území první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19:18Z</dcterms:created>
  <dc:creator>Novy</dc:creator>
  <dc:description/>
  <dc:language>en-US</dc:language>
  <cp:lastModifiedBy>U12116</cp:lastModifiedBy>
  <dcterms:modified xsi:type="dcterms:W3CDTF">2016-10-10T16:40:47Z</dcterms:modified>
  <cp:revision>261</cp:revision>
  <dc:subject/>
  <dc:title>Hlučnost vytápěcích soustav</dc:title>
</cp:coreProperties>
</file>