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2.png" ContentType="image/png"/>
  <Override PartName="/ppt/media/image7.wmf" ContentType="image/x-wmf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D04C-6DBC-4CC5-BF3C-946C4EBC0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52C0-ADF3-458F-BAC6-B09029364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1C62-BFBC-4B38-9C03-4BC9578CD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ECDB-7E4D-4673-8308-EA097BD0E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71D4-4447-4778-A1EB-312E51673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F230-0AC8-478D-9A59-959929049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4249-FE57-435D-92B0-5FF7E4FE3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9E51-C51A-48D6-A196-78D88234D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BC49-B12B-46C7-A74A-E0B7640F8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6342-B437-4EEB-9CAF-67E692229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D9A7-1923-4F1C-A7AF-ABD59830F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66B2-D622-41A7-8167-A952A131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0A6D8-2EB8-451E-8CC1-7656398CE8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836640"/>
            <a:ext cx="8713800" cy="4032360"/>
          </a:xfrm>
          <a:prstGeom prst="rect">
            <a:avLst/>
          </a:prstGeom>
          <a:solidFill>
            <a:srgbClr val="0000cc"/>
          </a:solidFill>
          <a:ln w="57240">
            <a:solidFill>
              <a:srgbClr val="fe26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Některé poznatky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z </a:t>
            </a:r>
            <a:br>
              <a:rPr sz="54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komerčního)</a:t>
            </a:r>
            <a:br>
              <a:rPr sz="2800"/>
            </a:b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měření ITN</a:t>
            </a:r>
            <a:br>
              <a:rPr sz="8000"/>
            </a:br>
            <a:br>
              <a:rPr sz="9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37040" y="5445000"/>
            <a:ext cx="306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Luděk Mare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CSI a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ludek.mares@fs.cvut.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4360" y="549360"/>
            <a:ext cx="7848360" cy="568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47640" y="1413000"/>
            <a:ext cx="5977080" cy="37544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85080" y="0"/>
            <a:ext cx="696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HÉMA MĚŘENÍ INDIKÁTORU V KALORIMETRICKÉ KOMOŘ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971280" y="0"/>
            <a:ext cx="64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ÁZNAM TEPLOT BĚHEM MĚŘENÍ - KVALITNÍ INDIKÁ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8353440" cy="51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118160" y="0"/>
            <a:ext cx="637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KVALITNÍ INDIKÁTOR – NESPLŇUJE PŘEDEPSANÉ „c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8353440" cy="51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09480" y="0"/>
            <a:ext cx="793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IKÁTOR UMÍSTĚNÝ V OBLASTI VYSOKÉ POVRCHOVÉ TEPLOTY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8353440" cy="51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9400" y="0"/>
            <a:ext cx="785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RMA ČSN EN 834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ísto instalace musí být tam, kde teplonosná látka prošla od 20 % do 34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 celkové aktivní otopné plochy.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8353440" cy="5197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649920" y="3213000"/>
            <a:ext cx="249408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067280" y="1844640"/>
            <a:ext cx="1225440" cy="792360"/>
          </a:xfrm>
          <a:prstGeom prst="ellipse">
            <a:avLst/>
          </a:prstGeom>
          <a:noFill/>
          <a:ln w="38160">
            <a:solidFill>
              <a:srgbClr val="fe26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243160" y="907920"/>
            <a:ext cx="4921200" cy="52102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124720" y="0"/>
            <a:ext cx="509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BOROVÁNÍ“ OBJEDNATELE S UMÍSTĚ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NEVYCHÁZEL SOUČINITEL „c“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560" y="0"/>
            <a:ext cx="376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T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 EXTERNÍM SEZO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IKÁTOR JE OVLIVNĚ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ÁLÁNÍM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 STĚN MÍST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8352000" cy="51976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580000" y="0"/>
            <a:ext cx="356400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625040" y="65160"/>
            <a:ext cx="59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ÍSTĚNÍ INDIKÁTORU A STŘEDNÍ TEPLOTY NA 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781200"/>
            <a:ext cx="9144000" cy="60768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598040" y="333360"/>
            <a:ext cx="53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(Vavřička, R.: Povrchová teplota deskových OT, in: Topin 2/201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976320"/>
            <a:ext cx="9144000" cy="58816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625040" y="65160"/>
            <a:ext cx="59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ÍSTĚNÍ INDIKÁTORU A STŘEDNÍ TEPLOTY NA 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625040" y="65160"/>
            <a:ext cx="59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ÍSTĚNÍ INDIKÁTORU A STŘEDNÍ TEPLOTY NA 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258920" y="576360"/>
            <a:ext cx="6697800" cy="62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240" y="1700280"/>
            <a:ext cx="862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DŮVODY PRO STANOVOVÁNÍ SPOTŘEBOVANÉHO TEP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JEDNOTLIVÝMI BYTY V BYTOVÝCH DOME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- SPRAVEDLIVÉ ROZÚČTOVÁNÍ NÁKLADŮ NA VYTÁPĚ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- ÚSPORY TEPLA („když platím podle toho co spotřebuji, tak šetřím“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16000" y="6021360"/>
            <a:ext cx="6842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Děkuji za pozor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29440" y="835200"/>
            <a:ext cx="12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ÁVĚ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55280" y="1844640"/>
            <a:ext cx="71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OVENÍ SPOTŘEBY TEPLA POUŽITÍM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T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 OVLIVNĚNO MNOHA OBTÍŽNĚ PODCHYTITELNÝMI FAK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ZATÍŽENO ŘADOU NEZANEDBATELNÝCH CHY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2268360" y="2997360"/>
                <a:ext cx="403236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Q</m:t>
                    </m:r>
                    <m:r>
                      <m:t xml:space="preserve">=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c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w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w</m:t>
                            </m:r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⋅</m:t>
                    </m:r>
                    <m:r>
                      <m:t xml:space="preserve">Δτ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396360" y="0"/>
            <a:ext cx="731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OVENÍ TEPLA PŘEDANÉHO TEPLONOSNOU LÁTK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36360" y="5589720"/>
            <a:ext cx="557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 NELZE POUŽÍT U VERTIKÁLNÍ SOUSTAVY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900000" y="1989000"/>
                <a:ext cx="446400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E</m:t>
                    </m:r>
                    <m:r>
                      <m:t xml:space="preserve">≈</m:t>
                    </m:r>
                    <m:r>
                      <m:t xml:space="preserve">ΔQ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zduch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Δτ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6443640" y="1957320"/>
                <a:ext cx="10080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E</m:t>
                        </m:r>
                      </m:num>
                      <m:den>
                        <m:r>
                          <m:t xml:space="preserve">Δτ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685080" y="1628640"/>
            <a:ext cx="524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RŮST SPOTŘEBNÍ HODNOTY INDIKÁTOR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8720" y="692280"/>
            <a:ext cx="21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ŘEDANÉ TEPL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7080" y="0"/>
            <a:ext cx="830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OVENÍ TEPLA PŘEDANÉHO PŘES TEPLOSMĚNNOU PLOCH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179280" y="981000"/>
                <a:ext cx="446400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E</m:t>
                    </m:r>
                    <m:r>
                      <m:t xml:space="preserve">≈</m:t>
                    </m:r>
                    <m:r>
                      <m:t xml:space="preserve">ΔQ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zduch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Δτ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179280" y="1125360"/>
            <a:ext cx="792360" cy="4320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859280" y="4410000"/>
                <a:ext cx="32418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kut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zduc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kut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dik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zduc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dik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1042920" y="4437000"/>
                <a:ext cx="316872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dik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zduc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dik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ku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zduc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ku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900000" y="1974960"/>
                <a:ext cx="44640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E</m:t>
                    </m:r>
                    <m:r>
                      <m:t xml:space="preserve">≈</m:t>
                    </m:r>
                    <m:r>
                      <m:t xml:space="preserve">ΔQ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zduch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Δτ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6443640" y="1957320"/>
                <a:ext cx="10080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E</m:t>
                        </m:r>
                      </m:num>
                      <m:den>
                        <m:r>
                          <m:t xml:space="preserve">Δτ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5869440" y="1341360"/>
            <a:ext cx="25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YCHLOST ZÁZNA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IKÁTOR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7080" y="0"/>
            <a:ext cx="830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OVENÍ TEPLA PŘEDANÉHO PŘES TEPLOSMĚNNOU PLOCH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4859280" y="4410000"/>
                <a:ext cx="32418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kut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zduc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kut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dik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zduc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dik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1042920" y="4437000"/>
                <a:ext cx="316872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dik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zduc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dik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ku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zduc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ku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900000" y="1974960"/>
                <a:ext cx="44640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E</m:t>
                    </m:r>
                    <m:r>
                      <m:t xml:space="preserve">≈</m:t>
                    </m:r>
                    <m:r>
                      <m:t xml:space="preserve">ΔQ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zduch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Δτ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6443640" y="1957320"/>
                <a:ext cx="10080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E</m:t>
                        </m:r>
                      </m:num>
                      <m:den>
                        <m:r>
                          <m:t xml:space="preserve">Δτ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4718160" y="3357720"/>
            <a:ext cx="364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YHODNOCOVACÍ SOUČINI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NÁKLADŮ NA VYTÁPĚN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 TEPELNÝ STYK SNÍMAČŮ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4859280" y="4410000"/>
                <a:ext cx="32418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kut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zduc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kut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dik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zduc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dik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397080" y="0"/>
            <a:ext cx="830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OVENÍ TEPLA PŘEDANÉHO PŘES TEPLOSMĚNNOU PLOCH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1042920" y="4437000"/>
                <a:ext cx="316872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dik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zduc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dik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ku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zduc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ku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900000" y="1974960"/>
                <a:ext cx="44640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E</m:t>
                    </m:r>
                    <m:r>
                      <m:t xml:space="preserve">≈</m:t>
                    </m:r>
                    <m:r>
                      <m:t xml:space="preserve">ΔQ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zduch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Δτ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6443640" y="1957320"/>
                <a:ext cx="10080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E</m:t>
                        </m:r>
                      </m:num>
                      <m:den>
                        <m:r>
                          <m:t xml:space="preserve">Δτ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1042920" y="4437000"/>
                <a:ext cx="316872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dik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zduc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dik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ku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zduc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ku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396360" y="3141720"/>
            <a:ext cx="354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ČINITEL „c“ INDIKÁTOR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VYJADŘUJE JAK SE TEPLO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ĚŘENÉ INDIKÁTO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ŘIBLIŽUJÍ SKUTEČNÝM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7080" y="0"/>
            <a:ext cx="830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OVENÍ TEPLA PŘEDANÉHO PŘES TEPLOSMĚNNOU PLOCH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4859280" y="4410000"/>
                <a:ext cx="32418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kut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zduc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kut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dik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zduc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dik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2556000" y="3213000"/>
                <a:ext cx="165564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w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w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763640" y="2222640"/>
            <a:ext cx="5688000" cy="24429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572000" y="2781360"/>
            <a:ext cx="431640" cy="431640"/>
          </a:xfrm>
          <a:prstGeom prst="ellipse">
            <a:avLst/>
          </a:prstGeom>
          <a:noFill/>
          <a:ln w="28440">
            <a:solidFill>
              <a:srgbClr val="fe26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124720" y="0"/>
            <a:ext cx="51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ŘEDEPSANÉ UMÍSTĚNÍ INDIKÁTORU NA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68360" y="981000"/>
            <a:ext cx="3097080" cy="511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117440" y="1432080"/>
            <a:ext cx="2011680" cy="35607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126160" y="0"/>
            <a:ext cx="47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HÉMA DVOUČIDLOVÉHO INDIKÁT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15560" y="1628640"/>
            <a:ext cx="5427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ROKY N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DOBRÝ DOTYK SENZORU 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TEPLOTNÍ ODIZOLOVÁNÍ SENZORU VZDUCH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ČASOVOU STÁLOST SENZOR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PŘESNOU ELEKTRONI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TRVANLIVOST BATE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3T20:25:39Z</dcterms:created>
  <dc:creator>Luděk Mareš</dc:creator>
  <dc:description/>
  <dc:language>en-US</dc:language>
  <cp:lastModifiedBy>L</cp:lastModifiedBy>
  <dcterms:modified xsi:type="dcterms:W3CDTF">2016-10-13T19:26:37Z</dcterms:modified>
  <cp:revision>55</cp:revision>
  <dc:subject/>
  <dc:title>Snímek 1</dc:title>
</cp:coreProperties>
</file>