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240-CDFC-4BCE-82A7-71331D95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C93-67E2-48D6-909F-4BBA2344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E64-011D-4FE0-91DC-36114814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E97-26F2-4DDA-9B49-B719B966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8F1D-98B6-427A-9FC4-FAF4F2FE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AC18-0C1A-48DB-9D9C-1C36539C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76B3-E933-45EB-897C-4E0D6A7C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1848-B814-4A12-ACFB-11F4300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D611-CEB1-49BB-B3BC-E4535DDE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6685-1B8F-4DCF-8534-D0777F1F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A1E9-545C-45DF-A586-7E9A7AC1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92A-3639-4E8F-8671-019E7EB3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A9DB-1934-458F-A01C-EDE9749B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BCBF-5C13-4640-8592-7908657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BCFF-DD28-4322-8890-58BFCF9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052A-7CD2-43E6-9554-8A291C72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C032-7E6D-4128-A85C-A852DBE9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7705-83AA-486E-9C07-7153EBA8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B41F-2EF3-4FBB-890A-827C04E3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3CA7-A077-4940-B906-1AFE8CF7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4A44-A88E-4929-B033-2787EF8E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F25C-583C-43F9-B6F0-51C3EF59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802-B25B-474C-91DF-DE2597F9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107F-F817-4860-A239-6DCF1303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2E90-A895-44A2-B998-55C5834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8502-C24C-4520-BD3A-653E777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92A4-F801-4CB0-85F5-4D0CB8F7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56CE1-2C10-4F18-959B-996214B4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ADE8-9F3B-441B-9DB9-BA568003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15A1-C7A9-4DEE-85A3-66436D68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BE83-3ADD-4385-B3E4-7B755C5D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7155-D4FC-4E72-B663-323BF83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BC47-C1AF-4B77-9DCD-AE8FC86C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B6C-8F4B-46E3-8563-090578A6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7EBB7-7B0D-4647-BF13-96C1036C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9615D-D423-4916-B7F4-2D98712C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5E4A-2F2C-4934-BE37-B7A1D8C1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3E251-630A-4BA2-9980-4D105BE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4424-9304-4169-9A5B-96B5E29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4F8F-1626-4054-A314-ACD16E8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801B-0F64-4008-B7D4-93290626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E8DA2-47DE-46A9-80FF-99A7A9A4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6148-D64A-4F0D-9E86-314231D4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024-7E1D-481D-A717-24A50CA1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9B5-6ACB-4370-AF8F-C3D909E7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D2F-6BC1-4B45-9104-3DE89FBE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4C8-68D9-47A7-900A-246A9991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0E1-D743-4718-843A-AC9C73C2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2A1-023A-4D0D-A0E3-390FF715B6D8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E02-4F57-4640-B034-CA8E5D9F04B4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C6C-2778-4955-9707-E1926A50A013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A521-606D-4AF2-87B6-A374D1D57006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V rámci OPŽP, Prioritní osy 2, Specifický cíl 2.1 (kotlíkové dotace) má být do roku 2020 UTRACENO 9 mld. Kč na výměnu starých kotlů na PP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6,5 mld. na samotnou výměnu kotlů        2,5 mld. na administraci projekt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     </a:t>
            </a:r>
            <a:r>
              <a:rPr b="1" lang="cs-CZ" sz="1400" spc="-1" strike="noStrike">
                <a:solidFill>
                  <a:srgbClr val="003300"/>
                </a:solidFill>
                <a:latin typeface="Arial"/>
                <a:ea typeface="Arial"/>
              </a:rPr>
              <a:t>na ověřování kvality podporovaných zdrojů je tedy dostatek financí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 případě nejasností okolo kvality podporovaného zdroje je v podkladech k Programu navržen následující postup (žádost o zápis do seznamu výrobků)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c3260c"/>
              </a:buClr>
              <a:buSzPct val="13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12745"/>
                </a:solidFill>
                <a:latin typeface="Calibri"/>
                <a:ea typeface="Times New Roman"/>
              </a:rPr>
              <a:t>jsem si vědom(a), že v případě podezření na nesplnění podmínek Programů, je Státní fond životního prostředí ČR (dále jen „Fond“) oprávněn vyžádat si jakékoliv další relevantní podklady k danému výrobku k nahlédnutí, a to včetně např. zkušebních protokolů, z nichž byly deklarované parametry převzaty, případně zadat provedení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kontrolního posouzení výrobku v nezávislé akreditované zkušební laboratoři dle příslušných právních požadavků a norem platných pro daný typ výrobku. Bude-li porušení podmínek Programů prokázáno, bude zápis dotčeného výrobku zrušen a veškeré výlohy spojené s kontrolním posouzením výrobku budou vymáhány po žadateli o zápis výrobu do seznamu výrobků a technologií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04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Podle odhadu až 40 % podporovaných kotlů na PP zapsaných v SVT nesplňuje podmínky dotace, tedy požadavky dle „ekodesignu“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Řešen byl jeden exemplární příklad. Technologie využívaná i českými výrobci: ocelovo-litinový kotel se samočinnou dodávkou paliva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litinový prohořívací kotel + ocelový podstavec s                                               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s hořákem na P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zachovává si možnost spalovat v ručním režimu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minimální výměník, nemožnost integrovat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dosatatečně velkou vydívku do spalovací komory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u českých výrobců dosaženo maximálně třídy 4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zahraniční výrobce deklaruje ekodesign a by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zapsán do SV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477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Byl podán podnět na SFŽP, po několika urgencích Fond zakoupil kotel a v souladu se schváleným postupem nechal provést zkoušku u české akreditované laboratoř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Zkoumaný kotel má jako hlavní palivo uvedeno </a:t>
            </a:r>
            <a:r>
              <a:rPr b="1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černé uhlí, doplňková paliva hnědé uhlí a dřevní pele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Výledky : u žádného paliva nebyly splněny požadavky na ekodesig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00"/>
                </a:solidFill>
                <a:latin typeface="Trebuchet MS"/>
              </a:rPr>
              <a:t>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hnědého uhlí a dřevních pelet potvrzena třída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 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černého uhlí  nesplněna třída 3 (podmínka pro uvedení na trh) </a:t>
            </a:r>
            <a:r>
              <a:rPr b="0" lang="cs-CZ" sz="20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21" name="Obrázek 3" descr=""/>
          <p:cNvPicPr/>
          <p:nvPr/>
        </p:nvPicPr>
        <p:blipFill>
          <a:blip r:embed="rId3"/>
          <a:stretch/>
        </p:blipFill>
        <p:spPr>
          <a:xfrm>
            <a:off x="1008000" y="2924280"/>
            <a:ext cx="72471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Fond ustoupil od deklarovaného postupu (v té době bylo podáno cca 4 tisíce žádostí na zmíněný kotel) a vyzval výrobce, aby doložil splnění požadavků na ekodesign od třetí autorizované osoby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ýrobce v požadovaném termínu dodal osvědčení o splnění podmínek (doklad formátu 1 x A4 bez přiložení zkušebního protokolu) pouze pro doplňková paliva (hnědé uhlí a dřevní pelety), pro preferenční palivo černé uhlí doklad nepředložil a byla mu udělen  odklad do konce roku. Doklad vypracoval zkušebna v Polsku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Argument MŽP : nemáme specialisty na řešení problém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Splnění podmínek ekodesignu spadá do kompetence SEI (ukládá jí to zákon 406/2000 o hospodaření energií). SEI na podaný podnět nereaguj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Pro druhé kolo je zapotřebí vyřešit dva základní problémy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1. Jak bude postupováno v obdobných případe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2. Je vůbec možné podporovat technologii, která umožňu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    </a:t>
            </a: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spalovat domovní odpady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0:59:26Z</dcterms:created>
  <dc:creator>Katka</dc:creator>
  <dc:description/>
  <dc:language>en-US</dc:language>
  <cp:lastModifiedBy>Microsoft</cp:lastModifiedBy>
  <cp:lastPrinted>2015-05-18T10:37:43Z</cp:lastPrinted>
  <dcterms:modified xsi:type="dcterms:W3CDTF">2016-10-10T11:32:39Z</dcterms:modified>
  <cp:revision>36</cp:revision>
  <dc:subject/>
  <dc:title>Kateřina Lyčková</dc:title>
</cp:coreProperties>
</file>