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FCA-C97A-4C87-88A8-23B28C76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3D5-502C-4843-A397-450CD60F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BFF-0F2E-4610-BE35-47DFD712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252-A815-4861-8B2A-83F0D7BC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78E-71E9-40ED-B846-656F0805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518-F292-4FA9-BB2B-0548732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638-1323-4E78-86EE-84872FDF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002-73B1-467D-A474-4A00C0DA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31E-AFAB-40E8-A459-4F3C6987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875-9BCD-40C4-9FDD-ECDD8EC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5F4-B3F7-4196-9EF7-108A3BE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F8F-C78C-47CF-AF1D-074A164C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8b8d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99A9-ADEA-422E-8135-5DECB68F47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Materiálové porovnání otopných so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Dr Ing. 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971640" y="1484280"/>
          <a:ext cx="7208640" cy="48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20864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755640" y="1484280"/>
          <a:ext cx="756432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5643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826920" y="1557360"/>
          <a:ext cx="7564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5646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342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ff33"/>
                </a:solidFill>
                <a:latin typeface="Arial"/>
              </a:rPr>
              <a:t>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3" descr="2.NPd.jpg"/>
          <p:cNvPicPr/>
          <p:nvPr/>
        </p:nvPicPr>
        <p:blipFill>
          <a:blip r:embed="rId1"/>
          <a:stretch/>
        </p:blipFill>
        <p:spPr>
          <a:xfrm>
            <a:off x="250920" y="1268280"/>
            <a:ext cx="869292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1.NPd.jpg"/>
          <p:cNvPicPr/>
          <p:nvPr/>
        </p:nvPicPr>
        <p:blipFill>
          <a:blip r:embed="rId1"/>
          <a:stretch/>
        </p:blipFill>
        <p:spPr>
          <a:xfrm>
            <a:off x="755640" y="1285920"/>
            <a:ext cx="788364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sché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3" descr="Schemad.jpg"/>
          <p:cNvPicPr/>
          <p:nvPr/>
        </p:nvPicPr>
        <p:blipFill>
          <a:blip r:embed="rId1"/>
          <a:srcRect l="0" t="11170" r="0" b="0"/>
          <a:stretch/>
        </p:blipFill>
        <p:spPr>
          <a:xfrm>
            <a:off x="539640" y="1557360"/>
            <a:ext cx="809964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2.NPc.jpg"/>
          <p:cNvPicPr/>
          <p:nvPr/>
        </p:nvPicPr>
        <p:blipFill>
          <a:blip r:embed="rId1"/>
          <a:stretch/>
        </p:blipFill>
        <p:spPr>
          <a:xfrm>
            <a:off x="611280" y="1235160"/>
            <a:ext cx="7956360" cy="5622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1.NPc.jpg"/>
          <p:cNvPicPr/>
          <p:nvPr/>
        </p:nvPicPr>
        <p:blipFill>
          <a:blip r:embed="rId1"/>
          <a:stretch/>
        </p:blipFill>
        <p:spPr>
          <a:xfrm>
            <a:off x="755640" y="1268280"/>
            <a:ext cx="7667640" cy="541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</a:t>
            </a:r>
            <a:br>
              <a:rPr sz="4000"/>
            </a:b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požadavek invest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Clanek.jpg"/>
          <p:cNvPicPr/>
          <p:nvPr/>
        </p:nvPicPr>
        <p:blipFill>
          <a:blip r:embed="rId1"/>
          <a:srcRect l="0" t="6674" r="0" b="0"/>
          <a:stretch/>
        </p:blipFill>
        <p:spPr>
          <a:xfrm>
            <a:off x="826920" y="1700280"/>
            <a:ext cx="759636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3" descr="2.NPj.jpg"/>
          <p:cNvPicPr/>
          <p:nvPr/>
        </p:nvPicPr>
        <p:blipFill>
          <a:blip r:embed="rId1"/>
          <a:stretch/>
        </p:blipFill>
        <p:spPr>
          <a:xfrm>
            <a:off x="900000" y="1413000"/>
            <a:ext cx="7523280" cy="531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1.NPj.jpg"/>
          <p:cNvPicPr/>
          <p:nvPr/>
        </p:nvPicPr>
        <p:blipFill>
          <a:blip r:embed="rId1"/>
          <a:stretch/>
        </p:blipFill>
        <p:spPr>
          <a:xfrm>
            <a:off x="826920" y="1387440"/>
            <a:ext cx="7740720" cy="547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6:11:35Z</dcterms:created>
  <dc:creator>.</dc:creator>
  <dc:description/>
  <dc:language>en-US</dc:language>
  <cp:lastModifiedBy>user</cp:lastModifiedBy>
  <dcterms:modified xsi:type="dcterms:W3CDTF">2016-10-06T18:41:36Z</dcterms:modified>
  <cp:revision>24</cp:revision>
  <dc:subject/>
  <dc:title>JEDNOTRUBKA A PODLAHOVÉ VYTÁPĚNÍ</dc:title>
</cp:coreProperties>
</file>