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68F-2EAA-4914-BDFE-6F508B9D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D0F-864D-4DB1-8E7B-2EF9CC6D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EBB-441D-438B-8B69-5F6926CC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33F-F7D0-4A08-A57A-CE1ED259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6C49-EDE9-44F4-9C81-0FE177B0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DC60-F7AB-4AC2-8CDF-569E539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0D1A-8486-46A8-8A7A-C02DF060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4866-4B72-4EEE-A567-7A6A4CD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C325-313D-4C22-A1F5-34DA583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F9C4-9825-4791-9CFC-9E840F21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6B3C-5B5D-4834-9C4D-C62DF6A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2A1-C348-4A3D-86D3-7E85A63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B29F-1835-4655-A3F7-5588B7F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5C33-77FF-48EC-B9C7-91BF6AD7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B7CE-806A-4B38-9611-B446D0B5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3D03-E307-44AC-966E-7DD43F60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B1DB-B69C-4D47-97BC-FB4E6014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110-C275-4A67-B36C-915FDBD5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1C3-CA36-47BA-B77F-45469FB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319-3FE6-4A12-8ECE-47E2FA4E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330-44E6-449B-B3C0-A5799E20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3B2-5C54-4356-814B-74E1D6A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3CD-0F5D-4399-A2DD-6209FE21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26F-004C-449F-B8B6-803E6E71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287-5D1C-4FFF-9CA9-B92B555A4BD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0B00-E9F6-41FB-BF5A-FD63E0949B79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ng. Miroslav Kučera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akulta strojní ČVUT v Pra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stav techniky prostřed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mail: miroslav.kucera@fs.cvut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2276640"/>
            <a:ext cx="8280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ovela § 77 zákona č. 258/2000 Sb., o ochraně veřejného zdrav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Neprovede-li stavebník dostatečná opatření k ochraně před hlukem, nemůže žádat, aby tato opatření provedl provozovatel, vlastník nebo správce zdroje hluku. To neplatí, dojde-li k prokazatelnému navýšení hluku ze zdroje hluku; co se považuje za prokazatelné navýšení hluku, stanoví prováděcí právní předpi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rovozovatele zdroje hluku pokud byl v území první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prokazatelném nárůstu hlučnosti zdroje, úpravy leží na provozovateli zdro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 stavebníka na odloženou realizaci protihlukové ochrany chráněné stavby do doby realizace plánované výstavby např. pozemní komunikace, nelze akceptova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611280" y="1125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ochraně zdraví před nepříznivými účinky hluku a vibr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o novelizováno a je platné ve zněn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bdélník 1"/>
          <p:cNvSpPr/>
          <p:nvPr/>
        </p:nvSpPr>
        <p:spPr>
          <a:xfrm>
            <a:off x="611280" y="17208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by, objekty, provozovny, nepohybující se stroje a zařízení pevně fixované na své místo nebo ty, jejichž akční rádius je při pracovním nasazení omezen…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se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ne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droje související s činnostmi spojenými s běžným užíváním bytu, bytového domu, rodinného domu, stavby pro rodinnou rekreaci a pozemků k nim náležejících,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s výjimkou zařízení pro větrání a vytápě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, která jsou nedílnou součástí stav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 kolaudována se stavbo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y pro chráněné prostory zůstávají    50/40  a 40/30 d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zení - klimatizace (chladí a netopí) - kolaudace – stac. zdro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nesena dodatečně – sousedský hl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bdélník 1"/>
          <p:cNvSpPr/>
          <p:nvPr/>
        </p:nvSpPr>
        <p:spPr>
          <a:xfrm>
            <a:off x="611280" y="1720800"/>
            <a:ext cx="79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em významným z hlediska pronikání hluku je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d výplní otvoru obvodového pláště stavby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zajišťující přímé přirozené větr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a níž se nachází chráněný vnitřní prostor stavby,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k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to chráněný prostor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přímo větrat jina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rání tlumenými štěrbinami na fasádě je povol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nelze provětrávat přes sousední místno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na mohou být otevíratelná avšak při jejich uzavření musí být splněn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ký lim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Obdélník 1"/>
          <p:cNvSpPr/>
          <p:nvPr/>
        </p:nvSpPr>
        <p:spPr>
          <a:xfrm>
            <a:off x="539640" y="17208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rokazatelné navýšení  hluku zdroje se považuje  navýšení větší než 2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ze považovat za hodnotitelnou změnu rozdíl v intervalu 0,1 až 0,9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ění hygienického limit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258920" y="4581360"/>
            <a:ext cx="5184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7" name="Objekt 3"/>
          <p:cNvGraphicFramePr/>
          <p:nvPr/>
        </p:nvGraphicFramePr>
        <p:xfrm>
          <a:off x="1692360" y="4348080"/>
          <a:ext cx="520056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348080"/>
                    <a:ext cx="5200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539640" y="285264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je dotčeným správním úřadem při rozhodování ve věcech upravených zvláštními právními předpisy </a:t>
            </a:r>
            <a:r>
              <a:rPr b="0" i="1" lang="cs-CZ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2)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se dotýkají zájmů chráněných orgánem ochrany veřejného zdraví podle tohoto zákona a zvláštních právních předpisů včetně hodnocení a řízení zdravotních rizik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vydává v těchto věcech stanovisko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hlas může orgán ochrany veřejného zdraví vázat na splnění podmínek. Stanovisko není rozhodnutím vydaným ve správním říz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hledisek stavebního zákona jde zejména o problematiku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hrany před hlukem, vibracem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ionizujícím záření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 případě, že je v platné územně plánovací dokumentaci uveden záměr, u kterého lze důvodně předpokládat, že bude po uvedení do provozu zdrojem hluku nebo vibrac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jména z provozu na pozemních komunikacích nebo železničních drahách,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ke stavbě, která by mohla být tímto hlukem či vibracemi dotčena, vydat kladné stanovisko orgánu ochrany veřejného zdraví, aniž by u ní byla přijata opatření k ochraně před hlukem nebo vibracemi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 zajistit „prioritu v území“ strategickým stavbám infrastruktury (pozemním komunikacím a drahám) již ve fázi zanesení budoucí trasy do územně plánovací dokument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 je umisťování „chráněných staveb “ i v lokalitách, v jejichž těsné blízkosti jsou navrženy trasy liniových staveb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datečná zátěž provozovatelů  protihlukovými opatřeními, která jsou mnohdy technicky nemožná nebo nedostatečn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 o stavby bytových domů, rodinných domů, stavby pro předškolní a školní výchovu a vzdělávání, stavby pro zdravotní a sociální účely, jakož i funkčně obdobné stavb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ěný vnitřní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obytové místnosti ve stavbách zařízení pro výchovu a vzdělávání, pro zdravotní a sociální účely a ve funkčně obdobných stavbách a obytné místnosti ve všech stavbách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 hluku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iště, pozemní komunikace, dráhy, stavby či jiná zařízení (s výjimkou venkovního prostoru) poskytnutá k pořádání veřejné produkce hudby, provozovny a další objekty, jejichž provozem vzniká hluk, ale i stroje a zařízení, které jsou zdrojem hluku nebo vibrac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 odst. 1 zákona č. 258/2000 Sb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nov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 zdroje, pořadatel hudební akce, ale také majitel pozemku či objektu, na kterém je zdroj hluku umístěn aj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sou povinny technickými, organizačními a dalšími opatřeními zajistit, aby hluk nepřekračoval hygienické lim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ou před hlukem se rozumí ochrana před „nadlimitním hlukem“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že je-li hluk podlimitní, není nutné přijímat žádná opatření k ochraně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se stavba umisťuje ke zdroji hluku do území, které není zasaženo nadlimitním hlukem, nejsou pro stavebníka žádná omezení, resp. není povinnost realizovat protihluková opatř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e, že vypočtená hodnota je o více než 3,0 dB nižší, než hodnota relevantního hygienického limit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leží výpočtový bod v „podlimitním“ území, neposuzuje se v daném místě zvýšení hluku o 2,0 dB a více. Jakmile by se v budoucnosti měřením prokázalo, že hluk je nadlimitní, znamená to, že povinnou osobou je provozovatel zdroje hluk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umisťování stavby do území není přípustné překročení hygienických limitů ani o 0,1 dB.  (logaritmický součet 40 +25 =40,1dB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vební úřad vždy zajistí, aby záměr žadatele ke stavbě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tového domu, rodinného domu, stavbě pro předškolní nebo školní vzdělávání, stavbě pro zdravotní nebo sociální účely anebo k funkčně obdobné stavbě a ke stavbě zdroje hluku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l z hlediska ochrany před hlukem posouzen příslušným orgánem ochrany veřejného zdraví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, aby vstupuje-li chráněná stavba do území jako druhá, byl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vinn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hlukových opatření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 straně stavební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áněné stavby,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ikoli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i zdroj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uku, který byl v území první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9:18Z</dcterms:created>
  <dc:creator>Novy</dc:creator>
  <dc:description/>
  <dc:language>en-US</dc:language>
  <cp:lastModifiedBy>U12116</cp:lastModifiedBy>
  <dcterms:modified xsi:type="dcterms:W3CDTF">2016-10-10T16:40:47Z</dcterms:modified>
  <cp:revision>261</cp:revision>
  <dc:subject/>
  <dc:title>Hlučnost vytápěcích soustav</dc:title>
</cp:coreProperties>
</file>