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73E-24C8-4AEC-AC04-9C9147FE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D5D-9F54-4C9A-83F0-D59774AC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B30-97C3-4414-8013-3D24ED3A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254E-1A0A-4BCD-AC16-1EF07D21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01F-6F44-4250-A750-6AB22D12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DBD2-678A-4947-A063-C8528536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5E2-C5B1-42B8-A854-D3C38D99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0807-1DF4-4D53-9B96-6A36125C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685B-2A09-4F63-97F4-4D3881EF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C44F-2004-4041-865A-ECF5F4AC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A64B-3159-4251-9060-0CA3D67A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B57-CCA3-4855-8E46-BFD38639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7D86-A780-4B76-BA5E-0E7AD7BE63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tlíky versus kotel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898989"/>
                </a:solidFill>
                <a:latin typeface="Calibri"/>
              </a:rPr>
              <a:t>Předmětem  je  investiční porovnání  mezi instalací  plynových kotlů s přípravou teplé vody v jednotlivých bytech bytového domu  a centrálním zdrojem tepla  pro vytápění bytů s přípravou teplé vody v centrálním zdroji tepl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000" y="549000"/>
            <a:ext cx="8351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ále je třeba si uvědomit, že kotelnu se zdrojem tepla o výkonu 49,5 kW lze přidáním  dalšího kotle o stejném výkon velmi snadno rozšířit   a zvýšit kapacitu zásobovaných bytů  o  dalších 5-7.   Při tomto počtu se také výrazně začnou  projevovat  zvýšené provozní náklady  na revize komína, kontroly kotlů  a servisní  činnost  2 kotle  versus 12 kotlů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C/ Závě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836280"/>
            <a:ext cx="82915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i porovnávání pravděpodobně nebyly podchyceny zcela přesně některé  investiční náklady, které při propočtech vycházeli z modelového předpokladu  osazení  kotlů v bytech a v centrálním zdroji tepla. Přesto  jsem přesvědčen, že hranice 3 bytů  je  zlomová pro rozhodování.  K jednotlivým případům je však  třeba přistupovat  individuálně a rozhodnutí je třeba provést pro konkrétní  stavební řešení. Z praxe  bývá hlavním parametrem  počet volných komínových průduchu a možnost odkouření jednotlivých kotlů a také možnost přívodu spalovacího vzduchu pro tyto kotle. Legislativa se v pro tato řešení za poslední roky velmi zpřísnila a stále se zpřísňuje. Komplikovaná řešení pak bývají nákladná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edním z aspektu hovořících pro centrální zdroje tepla je také možnost  dálkového monitoringu pomocí jednoduchých serverů,  které jsou schopny monitorovat provozní stavy, poruchové a řídit chod těchto malých kotele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Konečné slovo má přesto vždy inves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1579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000000"/>
                </a:solidFill>
                <a:uFillTx/>
                <a:latin typeface="Calibri"/>
              </a:rPr>
              <a:t>A / instalace plynového kotle v jednotlivém bytě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 jednotlivých bytech dle platné legislativy musí být v podstatě instalován uzavřený plynový spotřebič, kondenzační kotel  ( požadavek kondenzačního kotle vyplývá z požadavku splnit třídu exhalací pro Prahu Nox 5)  se zásobníkem na přípravu teplé vody.  Pro uvažované byty o vytápěné ploše cca 80 m2  je potřeba tepla cca 5-6 kW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ro jeden byt je tedy  třeba instalovat  jeden kotel o výkonu  cca 1-10 kW ( 2-17 kW ) spolu ze zásobníkem teplé vody.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brán byl kotel s výkonovým rozsahem 1-10 kW a zásobníkem o velikosti 120 l – typově pro bytovou jednotku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Cena instalace tohoto zařízení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Kotel + zásobník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7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gulace    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Odkouření    typické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0000,-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řípojka plynu pro byt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8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ontáž kotle + okouření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3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Instalace kotle v jednom bytě                         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121 000,-  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ovozní náklady roční    - základní      servis            15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vize komína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1000,-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ovozní roční  náklady na  jeden byt                 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2500,- 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Instalační   předpokl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1/ volné komínové průduchy pro jednotlivé kotle v jednotlivých bytech  ( Možností je i instalace komína LAS s možností  pro napojení více kotlů do jednoho komína.  Z praxe je  tato možnost spíše ojedinělá, technicky komplikovaná a bývá krajní volbou pro možnost odkouření )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2/  kotel a zásobník  je nutno v bytu umístit - prostor cca  60x60x200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3/  kotel dle platné legislativy vyžaduje přísné podmínky pro přívod spalovacího vzduchu.  Např. v bytech s plastovými okny je instalace kotle bez přívodu vzduchu z venku nebo ze světlíku, větrací šachty  prakticky nerealizovatelná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B/ Centrálního zdroje tepla  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Instalace  centrálního zdroje vychází z předpokladu, že námi navrhovaný zdroj bude ve smyslu platných předpisů plynové odběrní zařízení  tj. maximální výkon 49,5 kW respektive pro  větší zdroje tepla 2*49,5 kW ( takto navržený zdroj je ve smyslu platných předpisů – plynové odběrní zařízení  jako jeden kotel v bytě či rodinném domě.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Za tohoto předpokladu a obvyklé velikosti bytů jsme schopni výkonem  zdrojem tepla o výkonu 49,5 kW připravovat  topnou vodu pro vytápění cca 5 bytů  včetně teplé vod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olený zdroj je o výkonu 49,5 kW s centrální přípravou teplé vody  a s měřením spotřeby tepla na vstupu do jednotlivých bytů, s měřením tepla  na přípravu teplé vody a měřením v jednotlivých bytech   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Cena instalace tohoto zařízení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Kotel + zásobník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     100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Armatury, čerpadla ,…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450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gulace    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Odkouření    typické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5000,-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řípojka plynu pro kotelnu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0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ěřiče tepla  v kotelně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0000,-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ontáž kotle + okouření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30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gulace     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Cena zdroje tepla                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           250000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,-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ena rozvodů tepla na paty jednotlivých bytů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30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ěření tepla  pro   5 bytů                     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50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ena rozvodů teplé vody   do 5 byt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45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ena rozvodů tepla        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125000,-   na jeden byt        25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vozní náklady roční    - základní      servis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15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vize komína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1000,-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vozní náklady na  koteln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       2500,-  Kč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orovnání     centrálního zdroje tepla  versus lokální přípravy v jednotlivých bytech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Kotelna +rozvody           1 byt               2 byty              3 byty              4 byty                 5 bytů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275 000                        12100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00 000                                                 242 000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25 000  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363 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50 00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484 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75 00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   605 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 uvedené ho vyplývá, že uvažovat o centrálním zdroji tepla je vhodné již  při  instalaci  zdrojů tepla  ve třech byte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centrální kotelny  je třeba se také zmínit o nutnosti tuto kotelnu  navrhnou do odpovídajících prostor a s tím mohou být spojené stavební náklady, které mohou  toto rozhodnutí např.  posunout k hranici 4  vytápěných bytů.    Pro centrální kotelnu  s jedním zdrojem tepla  je také velká výhoda jednoho odkouření o průměru 110 mm – možnost vložkovat jeden stávající komínový průduch 150/150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centrální kotelny  je třeba se také zmínit o nutnosti tuto kotelnu  navrhnou do odpovídajících prostor a s tím mohou být spojené stavební náklady, které mohou  toto rozhodnutí např.  posunout k hranici 4  vytápěných bytů.    Pro centrální kotelnu  s jedním zdrojem tepla  je také velká výhoda jednoho odkouření o průměru 110 mm – možnost vložkovat jeden stávající komínový průduch 150/15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09:20:31Z</dcterms:created>
  <dc:creator>Petr</dc:creator>
  <dc:description/>
  <dc:language>en-US</dc:language>
  <cp:lastModifiedBy>Petr</cp:lastModifiedBy>
  <dcterms:modified xsi:type="dcterms:W3CDTF">2016-10-10T11:26:58Z</dcterms:modified>
  <cp:revision>9</cp:revision>
  <dc:subject/>
  <dc:title>Kotlíky versus kotelna</dc:title>
</cp:coreProperties>
</file>