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1520488" cy="7199313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717480" y="1240920"/>
            <a:ext cx="5362560" cy="335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596A-DA94-45AD-849F-9480249580E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28F8-5523-4592-8E16-26473846D6D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FFC8-D6F6-45A7-968C-FDB3D294DB8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6A7C-0CFE-4463-B7FD-63491920C8C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1129-4221-40F7-BCC7-5181A409425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BA3F-1C3D-4299-B2FA-2DC73178E81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377C-AA53-44A5-BABA-A846B2FB18B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74E7-23BA-40B1-8BBA-12C31D8EB2E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66E0-13FF-45D4-8D45-30BDED3688B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7B49-B07A-4229-B531-DE03F372A10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F030-D2E1-40F5-A43B-A54E104ABC9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3A31-5C57-4EB3-B4CB-FAC34F1F9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73FB-F491-4404-A187-EE2725682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1548-C855-42C6-977E-10EA360B9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EF65-7B81-494B-A88B-234C1409A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3BBC-AC79-4639-9B02-982F37DFA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9456-D7CA-4A69-BD12-0ED478344B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C8B2-752F-4335-B5A2-B778F93F7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F6B1-F491-40AB-B919-5D462CED7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DA7B-7E73-40AD-84C3-1E39EB537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1851-2564-47A3-B75F-2EFB47AE9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ADDC-0003-4464-9B58-BCF76B745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197A-A0A4-4AD8-A408-F7AAF5D38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256600" y="6671880"/>
            <a:ext cx="268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1D43-C2C0-409F-A5FF-4DA6A92B2B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ázek 2" descr="Logo_UTP_kompl_pop_03_2014.jpg"/>
          <p:cNvPicPr/>
          <p:nvPr/>
        </p:nvPicPr>
        <p:blipFill>
          <a:blip r:embed="rId2"/>
          <a:srcRect l="0" t="0" r="0" b="28271"/>
          <a:stretch/>
        </p:blipFill>
        <p:spPr>
          <a:xfrm>
            <a:off x="8640720" y="225360"/>
            <a:ext cx="2448000" cy="933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0" y="6696000"/>
            <a:ext cx="11520360" cy="523800"/>
          </a:xfrm>
          <a:prstGeom prst="rect">
            <a:avLst/>
          </a:prstGeom>
          <a:solidFill>
            <a:srgbClr val="707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0944360" y="6791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3808-0F14-45D9-BB32-6AE203B29BB0}" type="slidenum">
              <a:rPr b="1" lang="en-US" sz="16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římá spojnice 6"/>
          <p:cNvSpPr/>
          <p:nvPr/>
        </p:nvSpPr>
        <p:spPr>
          <a:xfrm>
            <a:off x="0" y="1079640"/>
            <a:ext cx="7920000" cy="0"/>
          </a:xfrm>
          <a:prstGeom prst="line">
            <a:avLst/>
          </a:prstGeom>
          <a:ln w="5724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8" descr=""/>
          <p:cNvPicPr/>
          <p:nvPr/>
        </p:nvPicPr>
        <p:blipFill>
          <a:blip r:embed="rId1"/>
          <a:stretch/>
        </p:blipFill>
        <p:spPr>
          <a:xfrm>
            <a:off x="719280" y="6224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sp>
        <p:nvSpPr>
          <p:cNvPr id="124" name="Obdélník 11"/>
          <p:cNvSpPr/>
          <p:nvPr/>
        </p:nvSpPr>
        <p:spPr>
          <a:xfrm>
            <a:off x="360360" y="1943280"/>
            <a:ext cx="1065672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707173"/>
                </a:solidFill>
                <a:latin typeface="Arial Narrow"/>
                <a:ea typeface="Calibri"/>
              </a:rPr>
              <a:t>STUDIE PROVOZNÍCH VLASTNOSTÍ OTOPNÝCH TĚ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  <a:ea typeface="Calibri"/>
              </a:rPr>
              <a:t>Školení topenářů Kutná H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11. 10.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Ing. Jindřich Boháč a Ing. Roman Vavřička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655640" y="1943280"/>
            <a:ext cx="835344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707173"/>
                </a:solidFill>
                <a:latin typeface="Arial Narrow"/>
              </a:rPr>
              <a:t>Tři krité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Objemové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 W / l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Hmotnostní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kg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Přestupní plocha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m</a:t>
            </a:r>
            <a:r>
              <a:rPr b="1" lang="cs-CZ" sz="4400" spc="-1" strike="noStrike" baseline="30000">
                <a:solidFill>
                  <a:srgbClr val="707173"/>
                </a:solidFill>
                <a:latin typeface="Arial Narrow"/>
                <a:ea typeface="Arial"/>
              </a:rPr>
              <a:t>2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503280" y="216000"/>
          <a:ext cx="7705800" cy="6826320"/>
        </p:xfrm>
        <a:graphic>
          <a:graphicData uri="http://schemas.openxmlformats.org/drawingml/2006/table">
            <a:tbl>
              <a:tblPr/>
              <a:tblGrid>
                <a:gridCol w="936720"/>
                <a:gridCol w="1224000"/>
                <a:gridCol w="647640"/>
                <a:gridCol w="504720"/>
                <a:gridCol w="863640"/>
                <a:gridCol w="504720"/>
                <a:gridCol w="863640"/>
                <a:gridCol w="503280"/>
                <a:gridCol w="720720"/>
                <a:gridCol w="936720"/>
              </a:tblGrid>
              <a:tr h="730440"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bjem [W/l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mo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[W/kg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řestupní plocha [W/m</a:t>
                      </a:r>
                      <a:r>
                        <a:rPr b="1" lang="cs-CZ" sz="16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em bo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řa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58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 50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97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WF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4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AS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44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 PROF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50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ovéPole 3"/>
          <p:cNvSpPr/>
          <p:nvPr/>
        </p:nvSpPr>
        <p:spPr>
          <a:xfrm>
            <a:off x="287280" y="2951280"/>
            <a:ext cx="1094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707173"/>
                </a:solidFill>
                <a:latin typeface="Arial Narrow"/>
              </a:rPr>
              <a:t>Děkuji za pozorno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rázek 8" descr=""/>
          <p:cNvPicPr/>
          <p:nvPr/>
        </p:nvPicPr>
        <p:blipFill>
          <a:blip r:embed="rId1"/>
          <a:stretch/>
        </p:blipFill>
        <p:spPr>
          <a:xfrm>
            <a:off x="719280" y="6350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56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pic>
        <p:nvPicPr>
          <p:cNvPr id="157" name="Obrázek 4" descr=""/>
          <p:cNvPicPr/>
          <p:nvPr/>
        </p:nvPicPr>
        <p:blipFill>
          <a:blip r:embed="rId3"/>
          <a:stretch/>
        </p:blipFill>
        <p:spPr>
          <a:xfrm>
            <a:off x="223200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58" name="Obrázek 5" descr=""/>
          <p:cNvPicPr/>
          <p:nvPr/>
        </p:nvPicPr>
        <p:blipFill>
          <a:blip r:embed="rId4"/>
          <a:stretch/>
        </p:blipFill>
        <p:spPr>
          <a:xfrm>
            <a:off x="3473280" y="5622840"/>
            <a:ext cx="889200" cy="89064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6" descr=""/>
          <p:cNvPicPr/>
          <p:nvPr/>
        </p:nvPicPr>
        <p:blipFill>
          <a:blip r:embed="rId5"/>
          <a:stretch/>
        </p:blipFill>
        <p:spPr>
          <a:xfrm>
            <a:off x="5927760" y="562284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Obrázek 7" descr=""/>
          <p:cNvPicPr/>
          <p:nvPr/>
        </p:nvPicPr>
        <p:blipFill>
          <a:blip r:embed="rId6"/>
          <a:stretch/>
        </p:blipFill>
        <p:spPr>
          <a:xfrm>
            <a:off x="7143840" y="561672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161" name="Obrázek 10" descr=""/>
          <p:cNvPicPr/>
          <p:nvPr/>
        </p:nvPicPr>
        <p:blipFill>
          <a:blip r:embed="rId7"/>
          <a:stretch/>
        </p:blipFill>
        <p:spPr>
          <a:xfrm>
            <a:off x="471312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12" descr=""/>
          <p:cNvPicPr/>
          <p:nvPr/>
        </p:nvPicPr>
        <p:blipFill>
          <a:blip r:embed="rId8"/>
          <a:stretch/>
        </p:blipFill>
        <p:spPr>
          <a:xfrm>
            <a:off x="8358120" y="5597640"/>
            <a:ext cx="90828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ázek 11" descr="C:\Users\JB\Dropbox\MINIB - Case Study - 2016\V Y H O D N O C E N Í\obr.4.jpg"/>
          <p:cNvPicPr/>
          <p:nvPr/>
        </p:nvPicPr>
        <p:blipFill>
          <a:blip r:embed="rId1"/>
          <a:stretch/>
        </p:blipFill>
        <p:spPr>
          <a:xfrm>
            <a:off x="2376360" y="1235160"/>
            <a:ext cx="9001080" cy="58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ázek 9" descr="C:\Users\JB\Dropbox\MINIB - Case Study - 2016\V Y H O D N O C E N Í\obr.5.jpg"/>
          <p:cNvPicPr/>
          <p:nvPr/>
        </p:nvPicPr>
        <p:blipFill>
          <a:blip r:embed="rId1"/>
          <a:stretch/>
        </p:blipFill>
        <p:spPr>
          <a:xfrm>
            <a:off x="2735280" y="1582560"/>
            <a:ext cx="865980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rázek 4" descr=""/>
          <p:cNvPicPr/>
          <p:nvPr/>
        </p:nvPicPr>
        <p:blipFill>
          <a:blip r:embed="rId1"/>
          <a:stretch/>
        </p:blipFill>
        <p:spPr>
          <a:xfrm>
            <a:off x="3811680" y="4013280"/>
            <a:ext cx="4248000" cy="3186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Experiment v laboratořích Ústavu techniky prostředí FS ČVUT v Pr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rázek 1" descr=""/>
          <p:cNvPicPr/>
          <p:nvPr/>
        </p:nvPicPr>
        <p:blipFill>
          <a:blip r:embed="rId2"/>
          <a:stretch/>
        </p:blipFill>
        <p:spPr>
          <a:xfrm>
            <a:off x="142920" y="1674720"/>
            <a:ext cx="4321080" cy="3240360"/>
          </a:xfrm>
          <a:prstGeom prst="rect">
            <a:avLst/>
          </a:prstGeom>
          <a:ln w="0">
            <a:noFill/>
          </a:ln>
        </p:spPr>
      </p:pic>
      <p:pic>
        <p:nvPicPr>
          <p:cNvPr id="135" name="Obrázek 5" descr=""/>
          <p:cNvPicPr/>
          <p:nvPr/>
        </p:nvPicPr>
        <p:blipFill>
          <a:blip r:embed="rId3"/>
          <a:stretch/>
        </p:blipFill>
        <p:spPr>
          <a:xfrm>
            <a:off x="7534440" y="1674720"/>
            <a:ext cx="3985920" cy="29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31640" y="1800360"/>
          <a:ext cx="10585440" cy="4854600"/>
        </p:xfrm>
        <a:graphic>
          <a:graphicData uri="http://schemas.openxmlformats.org/drawingml/2006/table">
            <a:tbl>
              <a:tblPr/>
              <a:tblGrid>
                <a:gridCol w="1322640"/>
                <a:gridCol w="1225440"/>
                <a:gridCol w="4363920"/>
                <a:gridCol w="1650960"/>
                <a:gridCol w="2022480"/>
              </a:tblGrid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nve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přirozené vybíjení (T50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nucené vybíjení (T 50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přirozené vybíjení (NKF 1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nucené vybíjení (NKF 1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WF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5 x 178 x 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500/110 – 10 článků (KALOR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 – 10 článků (OR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78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 – 10 článků (SO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 x 579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1200/600 (K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0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DIK KLASIK 10 - 500x1000 (KLASI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 x 500 x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Nábě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Obr_3"/>
          <p:cNvPicPr/>
          <p:nvPr/>
        </p:nvPicPr>
        <p:blipFill>
          <a:blip r:embed="rId1"/>
          <a:stretch/>
        </p:blipFill>
        <p:spPr>
          <a:xfrm>
            <a:off x="1008000" y="1122480"/>
            <a:ext cx="936936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Chlad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Obr_4"/>
          <p:cNvPicPr/>
          <p:nvPr/>
        </p:nvPicPr>
        <p:blipFill>
          <a:blip r:embed="rId1"/>
          <a:stretch/>
        </p:blipFill>
        <p:spPr>
          <a:xfrm>
            <a:off x="934920" y="1170000"/>
            <a:ext cx="95392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Vyhodnocení tepelné setrvač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6000" y="1693800"/>
          <a:ext cx="590364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0000"/>
                <a:gridCol w="647640"/>
                <a:gridCol w="649440"/>
                <a:gridCol w="647640"/>
                <a:gridCol w="647640"/>
                <a:gridCol w="64764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912000" y="1693800"/>
          <a:ext cx="403236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1800"/>
                <a:gridCol w="718920"/>
                <a:gridCol w="64800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7"/>
          <p:cNvSpPr/>
          <p:nvPr/>
        </p:nvSpPr>
        <p:spPr>
          <a:xfrm>
            <a:off x="2519280" y="1079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920000" y="1079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15920" y="1063800"/>
            <a:ext cx="11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28800" y="1587600"/>
          <a:ext cx="9461520" cy="5532480"/>
        </p:xfrm>
        <a:graphic>
          <a:graphicData uri="http://schemas.openxmlformats.org/drawingml/2006/table">
            <a:tbl>
              <a:tblPr/>
              <a:tblGrid>
                <a:gridCol w="1182600"/>
                <a:gridCol w="1095480"/>
                <a:gridCol w="4454280"/>
                <a:gridCol w="922320"/>
                <a:gridCol w="1806840"/>
              </a:tblGrid>
              <a:tr h="1158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6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3 500/110 – 10 článků (KALOR 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 500/130 – 10 článků (STY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 C3 – 10 článků (AT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7 x 600 x 4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 500 – 10 článků (VO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6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 500/80 – 10 článků (G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 3050 (CHARLESTO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 x 500 x 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 Profil 10-500x1000 (THERM X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GATREND K 10-500x1000 (K PROFI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 10-600x1000 (HYGIEN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6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 11-500x1000 (SENS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 (SWINGO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 x 1210 x 6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 1160 x 600 (CO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 x 1152 x 6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 11101-08 (BM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 x 1186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 1160/600 (PRIMO-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116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COMFORT 1220/600 (KLT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2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2:56:52Z</dcterms:created>
  <dc:creator>Jindřich Boháč</dc:creator>
  <dc:description/>
  <dc:language>en-US</dc:language>
  <cp:lastModifiedBy>Jindřich Boháč</cp:lastModifiedBy>
  <cp:lastPrinted>2015-05-14T10:56:37Z</cp:lastPrinted>
  <dcterms:modified xsi:type="dcterms:W3CDTF">2016-10-11T07:14:29Z</dcterms:modified>
  <cp:revision>476</cp:revision>
  <dc:subject/>
  <dc:title>Snímek 1</dc:title>
</cp:coreProperties>
</file>